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590F-942B-4BAF-809F-55BFF1FA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3B9C-6072-4BA1-8487-CD6BC144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313F-AEF3-4F83-B6B7-1CA8A011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EBE7-7F77-4DD7-A379-057C2172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2C81-CBEB-49A7-BD11-346D2804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5939-DFD1-429A-B559-FB0230E3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424D-94C7-4DC9-BC4A-C4CD6940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8D6B-2D14-441F-A7D2-AA0427D3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5C21-CAA0-4E95-B407-FFD30A67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F14C-91CE-4303-A5EB-5742A765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3130-D5A9-497D-BB0A-85F246A8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3A01-FAB1-41E2-965D-26061362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A478-A6B5-4721-AA9D-C73437DB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CD29-0F4E-47CC-8A6A-63089375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DD05-0235-4FCE-B17F-F7974FB2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6A56-479E-498E-9E1D-114A1E50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BC6B-CAAF-4B7E-94E2-C3A4DDE0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F90B-5659-4581-95A4-947E1BD9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7B8F-1C60-4E11-9C9F-6CBE896C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A1C4-F218-4FB4-9EFF-A13C7BBC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7625-03F4-4E52-AC0C-D964F79D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3B65-5E3C-47EA-BB59-4474ED86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CAE4-9653-4D13-A001-801FFC9D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2899-8FC2-49AD-AAAC-06A68E47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D3D1-00A0-41B4-8DC5-FB295540E02B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0980-2179-4E1A-ABDB-204E4C68BB43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SZKOŁA BEZ PRZEMO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8131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</a:rPr>
              <a:t>RODZ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BD00028_" descr=""/>
          <p:cNvPicPr/>
          <p:nvPr/>
        </p:nvPicPr>
        <p:blipFill>
          <a:blip r:embed="rId1"/>
          <a:stretch/>
        </p:blipFill>
        <p:spPr>
          <a:xfrm>
            <a:off x="4643280" y="1730520"/>
            <a:ext cx="381492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Uczeń w szkole bez przemocy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hce chodzić do szkoł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a potrzebę uczestniczenia w życiu szkoł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zuję się bezpiecznie i lepiej rozwija swoje umiejętnoś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Uczy się dla sieb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Rodzic w szkole bez przemocy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spółpracuje z nauczycielami, wspiera ich działa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Jest spokojny o swoje dzieck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pełnia istotna rolę, współuczestniczy w działaniach podejmowanych przez szkoł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Nauczyciel w szkole bez przemocy.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hętnie pracuje, ma satysfakcje z wyników swoich ucznió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Jest aktyw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siada niezbędna wiedz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Otacza dziecko opiek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Idzie z radością do pra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Szkoła bez przemo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BD06663_" descr=""/>
          <p:cNvPicPr/>
          <p:nvPr/>
        </p:nvPicPr>
        <p:blipFill>
          <a:blip r:embed="rId1"/>
          <a:stretch/>
        </p:blipFill>
        <p:spPr>
          <a:xfrm>
            <a:off x="1890720" y="2097000"/>
            <a:ext cx="381312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NU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8131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ZORGANIZOWAĆ PRZERWY (akc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harytatywne, sprzeda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iast, radiowęzeł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DYSKOTEKA SZKOLNA</a:t>
            </a:r>
            <a:r>
              <a:rPr b="0" lang="pl-P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ZAJĘCIA POZALEKCYJ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IMPREZY INTEGRACYJ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YSTRÓJ OKOLICZNOŚCIOWY SZKOŁ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2920" y="1641240"/>
            <a:ext cx="38149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BIBLIOTEKA SZKOL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ONKURS „ZGADNIJ KTO TO?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AKCJE PRZECI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ZEMOCY (różnorodne działania kulturalne, sportowe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RODZICE NA GODZINACH WYCHOWAWCZY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PORZĄD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8131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EGULAMIN SZKOŁ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DYŻURY(na przerwac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ABEZPIECZENIE PRZED OSOBAMI Z ZEWNĄTRZ (identyfikator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EGULAMIM PORZĄDKU 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2920" y="1641240"/>
            <a:ext cx="38149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ARY ZA AGRESYWNE ZACHOWA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OPIEKA i POMO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8131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D RODZICAMI W CZASIE WIZYTY W SZKOLE(miejsce rozmów, tablice ogłoszeniowe w dniu zebrań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PECJALISTA W SZKOLE (dyżur psycholog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2920" y="1641240"/>
            <a:ext cx="38149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ZKOLENIA DLA NAUCZYCIELI I RODZICÓW(Jak radzić sobie  z przemocą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ODZINY WYCHOWAWCZE DLA UCZNIÓW(Jak radzić sobie  z przemocą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imes New Roman"/>
              </a:rPr>
              <a:t>DZIĘKUJĘ ZA WSPÓŁPRAC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6776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opracowani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ałgorzata Siupi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Uczeń w szkole bez przemocy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To taki, który chętnie uczestniczy w zajęci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Jest w dobrych relacjach z uczniami i nauczyciela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zuje się bezpieczny i potrzeb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Jest osobą zadowoloną, otwartą i przyjacielsk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Rodzic w szkole bez przemocy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Jest spokojny o bezpieczeństwo dziec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ający pewność, że jego dziecko jest w „dobrych rękach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Otwarty, pomocny w rozwiązywaniu problemó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hętny do współpra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Nauczyciel w szkole bez przemocy.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hętnie pracu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yrozumiał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Otwarty na problemy ucznió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zujący się bezpieczn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oże spokojnie realizować program edukacyj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SZKOŁA BEZ PRZEMO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8131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imes New Roman"/>
              </a:rPr>
              <a:t>UCZNIOWI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BD00028_" descr=""/>
          <p:cNvPicPr/>
          <p:nvPr/>
        </p:nvPicPr>
        <p:blipFill>
          <a:blip r:embed="rId1"/>
          <a:stretch/>
        </p:blipFill>
        <p:spPr>
          <a:xfrm>
            <a:off x="4643280" y="1730520"/>
            <a:ext cx="381492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Uczeń w szkole bez przemocy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Jest zadowolony, pewny sieb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Bezpiecz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zczęśliw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hętnie przychodzi do szkoł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oże skupić się na nau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Rodzic w szkole bez przemocy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ą spokojniejsi i nie muszą martwić się o dwoje dzie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winien wspierać, pomaga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Nauczyciel w szkole bez przemocy.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zuje się bezpieczn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Tolerancyjny, pomoc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ieszy się ze swojej pra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Będzie zadowolo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SZKOŁA BEZ PRZEMO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8131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NAUCZYCIE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BD00028_" descr=""/>
          <p:cNvPicPr/>
          <p:nvPr/>
        </p:nvPicPr>
        <p:blipFill>
          <a:blip r:embed="rId1"/>
          <a:stretch/>
        </p:blipFill>
        <p:spPr>
          <a:xfrm>
            <a:off x="4643280" y="1730520"/>
            <a:ext cx="381492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6:25:14Z</dcterms:created>
  <dc:creator>Gosia</dc:creator>
  <dc:description/>
  <dc:language>en-US</dc:language>
  <cp:lastModifiedBy>PLO</cp:lastModifiedBy>
  <dcterms:modified xsi:type="dcterms:W3CDTF">2008-01-31T15:39:25Z</dcterms:modified>
  <cp:revision>14</cp:revision>
  <dc:subject/>
  <dc:title>SZKOŁA BEZ PRZEMOCY</dc:title>
</cp:coreProperties>
</file>