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E028-F859-4153-AB08-DC420567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3C8-FFDA-456A-9E99-00FDEB80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42D1-5837-44DA-8EC9-686DB4AF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4944-1142-4BCD-8642-016215E6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4DB4-27F2-4167-AF10-88ADEE9B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41F9-418C-49B1-9F2C-FAB84856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B446-531B-430D-9458-2A69C237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F554-0656-4F68-9D36-A721F676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D31A-75C6-46D0-B54B-0F2C55D0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4AC6-FACF-4C8F-B692-B9313FCF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DCC9-8866-48DE-9F59-25B6DCF1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549-AEA3-4FE1-A1DE-7C268407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F8BC-A445-47C8-8C8D-439A401F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570D-52F6-4827-BD09-178F4BD6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AAEC-B0BB-424F-9A4D-5ACF7A7D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E343-0230-406F-939C-00C0FD5C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0DA1-639E-41F2-B798-8DA7611A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41C-4249-405B-8E75-ED4BCC5F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9A2-9E05-4CBA-BA59-B9B23975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681-E109-4BFE-B45B-76737C8F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FCF-A945-43B2-9DA9-11A06548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E21-2B30-4F42-A035-EA0E2790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5FBE-4DE8-45C4-A944-C01DB93C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E9E-F096-476C-967F-5C971FF2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5266-BF08-473A-BE9E-15113722C977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0616-109D-4FC5-9DE9-5FB5B394AF8C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SZKOŁA BEZ PRZEMO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</a:rPr>
              <a:t>RODZ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BD00028_" descr=""/>
          <p:cNvPicPr/>
          <p:nvPr/>
        </p:nvPicPr>
        <p:blipFill>
          <a:blip r:embed="rId1"/>
          <a:stretch/>
        </p:blipFill>
        <p:spPr>
          <a:xfrm>
            <a:off x="4643280" y="1730520"/>
            <a:ext cx="38149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Uczeń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ce chodzić do szkoł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a potrzebę uczestniczenia w życiu szkoł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zuję się bezpiecznie i lepiej rozwija swoje umiejętnoś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Uczy się dla sieb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Rodzic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spółpracuje z nauczycielami, wspiera ich działa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spokojny o swoje dziec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ełnia istotna rolę, współuczestniczy w działaniach podejmowanych przez szkoł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Nauczyciel w szkole bez przemocy.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ętnie pracuje, ma satysfakcje z wyników swoich uczni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aktyw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siada niezbędna wiedz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tacza dziecko opiek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Idzie z radością do p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Szkoła bez przemo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BD06663_" descr=""/>
          <p:cNvPicPr/>
          <p:nvPr/>
        </p:nvPicPr>
        <p:blipFill>
          <a:blip r:embed="rId1"/>
          <a:stretch/>
        </p:blipFill>
        <p:spPr>
          <a:xfrm>
            <a:off x="1890720" y="2097000"/>
            <a:ext cx="38131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NU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ORGANIZOWAĆ PRZERWY (akc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harytatywne, sprzeda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iast, radiowęzeł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YSKOTEKA SZKOLNA</a:t>
            </a:r>
            <a:r>
              <a:rPr b="0" lang="pl-P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AJĘCIA POZALEKCYJ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MPREZY INTEGRACYJ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STRÓJ OKOLICZNOŚCIOWY SZKOŁ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2920" y="1641240"/>
            <a:ext cx="3814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IBLIOTEKA SZKOL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NKURS „ZGADNIJ KTO TO?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KCJE PRZECI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EMOCY (różnorodne działania kulturalne, sportowe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RODZICE NA GODZINACH WYCHOWAWCZ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PORZĄD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EGULAMIN SZKOŁ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YŻURY(na przerwa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BEZPIECZENIE PRZED OSOBAMI Z ZEWNĄTRZ (identyfika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EGULAMIM PORZĄDKU 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2920" y="1641240"/>
            <a:ext cx="3814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ARY ZA AGRESYWNE ZACHOW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OPIEKA i POMO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 RODZICAMI W CZASIE WIZYTY W SZKOLE(miejsce rozmów, tablice ogłoszeniowe w dniu zebrań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ECJALISTA W SZKOLE (dyżur psycholog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641240"/>
            <a:ext cx="3814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LENIA DLA NAUCZYCIELI I RODZICÓW(Jak radzić sobie  z przemocą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ODZINY WYCHOWAWCZE DLA UCZNIÓW(Jak radzić sobie  z przemocą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DZIĘKUJĘ ZA WSPÓŁPRAC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6776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opracowani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ałgorzata Siup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Uczeń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o taki, który chętnie uczestniczy w zajęci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w dobrych relacjach z uczniami i nauczyciel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zuje się bezpieczny i potrzeb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osobą zadowoloną, otwartą i przyjacielsk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Rodzic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spokojny o bezpieczeństwo dziec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ający pewność, że jego dziecko jest w „dobrych rękach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twarty, pomocny w rozwiązywaniu problem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ętny do współp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Nauczyciel w szkole bez przemocy.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ętnie prac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yrozumiał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twarty na problemy uczni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zujący się bezpiecz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oże spokojnie realizować program edukacyj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SZKOŁA BEZ PRZEMO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imes New Roman"/>
              </a:rPr>
              <a:t>UCZNIOW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BD00028_" descr=""/>
          <p:cNvPicPr/>
          <p:nvPr/>
        </p:nvPicPr>
        <p:blipFill>
          <a:blip r:embed="rId1"/>
          <a:stretch/>
        </p:blipFill>
        <p:spPr>
          <a:xfrm>
            <a:off x="4643280" y="1730520"/>
            <a:ext cx="38149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Uczeń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zadowolony, pewny sieb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Bezpiecz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zczęśliw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ętnie przychodzi do szkoł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oże skupić się na na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Rodzic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ą spokojniejsi i nie muszą martwić się o dwoje dzie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winien wspierać, pomaga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Nauczyciel w szkole bez przemocy.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zuje się bezpiecz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olerancyjny, pomoc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ieszy się ze swojej p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Będzie zadowol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SZKOŁA BEZ PRZEMO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NAUCZYCIE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D00028_" descr=""/>
          <p:cNvPicPr/>
          <p:nvPr/>
        </p:nvPicPr>
        <p:blipFill>
          <a:blip r:embed="rId1"/>
          <a:stretch/>
        </p:blipFill>
        <p:spPr>
          <a:xfrm>
            <a:off x="4643280" y="1730520"/>
            <a:ext cx="38149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6:25:14Z</dcterms:created>
  <dc:creator>Gosia</dc:creator>
  <dc:description/>
  <dc:language>en-US</dc:language>
  <cp:lastModifiedBy>PLO</cp:lastModifiedBy>
  <dcterms:modified xsi:type="dcterms:W3CDTF">2008-01-31T15:39:25Z</dcterms:modified>
  <cp:revision>14</cp:revision>
  <dc:subject/>
  <dc:title>SZKOŁA BEZ PRZEMOCY</dc:title>
</cp:coreProperties>
</file>