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6B5C-035F-494E-A4FB-ECBFCF74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B88-2596-4373-9A8C-1D77BE4D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44A-0E2D-40F6-96C1-2A078E46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F1C5-BB68-45E3-AA4F-707907E5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393A-D5AF-4A3B-9AF1-EE00D83D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BEB6-FF9C-4474-B6DD-00F5974D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D61D-553E-49DB-A178-158AC9A6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9173-E4E8-47B1-9F1B-F07FFF76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70AB-3B68-4B82-A3C0-BDA5DC82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96D7-8505-4855-96BB-966F0F56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E108-6E39-4219-9D30-88356198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FF2F-AEB2-416A-A44E-E621F98D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4F4F-55D9-40E6-9EE2-93672EF8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13A3-0186-46A8-8A0B-914DB16A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E980-14E3-4C8B-927C-79C26A36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58A0-44D5-4CE7-B266-0E021999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7EF4-C74B-4B85-A739-8881E381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5606-C9A5-4F2E-BA40-C8586C13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5575-EB27-412F-B473-056AF41B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96F8-16D0-4882-A890-DF1D3471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6F8B-B3C3-4416-A0A3-3486DC40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FB3-CE28-40D0-BC8E-EF21D629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51D7-EA5B-4E44-9C82-F2A348F4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33D8-E0A7-4ACF-8E6E-D4B51082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F874-E435-48A0-BE1F-5AE41B58E5EC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97CF-691B-4EA0-AE40-85C1299C8C53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potkanie z rodzicami klas maturalnyc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64c"/>
                </a:solidFill>
                <a:latin typeface="Times New Roman"/>
              </a:rPr>
              <a:t>"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ażdy młody człowiek wcześniej czy później dokonuje zdumiewającego odkrycia, że także rodzice mają niekiedy rację.„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Październik 2006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4" name="stres" descr=""/>
          <p:cNvPicPr/>
          <p:nvPr/>
        </p:nvPicPr>
        <p:blipFill>
          <a:blip r:embed="rId4"/>
          <a:stretch/>
        </p:blipFill>
        <p:spPr>
          <a:xfrm>
            <a:off x="4648320" y="2185920"/>
            <a:ext cx="380988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TR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64c"/>
                </a:solidFill>
                <a:latin typeface="Verdana"/>
                <a:ea typeface="Times New Roman"/>
              </a:rPr>
              <a:t>"</a:t>
            </a:r>
            <a:r>
              <a:rPr b="0" i="1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tres jest to relacja między umiejętnościami radzenia sobie jednostki a wymaganiami stawianymi jej przez otoczenie</a:t>
            </a:r>
            <a:r>
              <a:rPr b="0" i="1" lang="en-US" sz="2400" spc="-1" strike="noStrike">
                <a:solidFill>
                  <a:srgbClr val="00264c"/>
                </a:solidFill>
                <a:latin typeface="Verdana"/>
                <a:ea typeface="Times New Roman"/>
              </a:rPr>
              <a:t>."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6" name="BD05368_" descr=""/>
          <p:cNvPicPr/>
          <p:nvPr/>
        </p:nvPicPr>
        <p:blipFill>
          <a:blip r:embed="rId3"/>
          <a:stretch/>
        </p:blipFill>
        <p:spPr>
          <a:xfrm>
            <a:off x="685800" y="1981080"/>
            <a:ext cx="380988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TR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asza odporność na stres zależy w dużym stopniu od tego, czy mamy oparcie w innych ludziach (rodzice, przyjaciele, nauczyciel), czyli od naszego wsparcia społecznego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9" name="PE02097_" descr=""/>
          <p:cNvPicPr/>
          <p:nvPr/>
        </p:nvPicPr>
        <p:blipFill>
          <a:blip r:embed="rId3"/>
          <a:stretch/>
        </p:blipFill>
        <p:spPr>
          <a:xfrm>
            <a:off x="685800" y="2475000"/>
            <a:ext cx="38098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KONIEC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264c"/>
                </a:solidFill>
                <a:latin typeface="Times New Roman"/>
              </a:rPr>
              <a:t>Opracowała: Małgorzata Siupik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S T R E S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tan zaburzonej równowagi psychologicznej i fizjologicznej w wyniku reakcji somatycznych, które są odpowiedzią na wydarzenia niespodziewane, zakłócające lub stymulujące organizm i całego człowieka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TR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od wpływem stresu pozostajemy wszyscy - choć jedni częściej, inni rzadziej. Często od nas samych zależy, czy dana sytuacja nosi znamiona zagrożenia. To, co dla jednego człowieka stanowi zagrożenie, dla innego może być przyjemnym urozmaiceniem. I tak dla jednych egzamin graniczy z końcem świata, dla innych jest tylko zadaniem; dla jednych porażka jest bodźcem do działania, inni porażkę przepłacają depresją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9" name="BD05552_" descr=""/>
          <p:cNvPicPr/>
          <p:nvPr/>
        </p:nvPicPr>
        <p:blipFill>
          <a:blip r:embed="rId3"/>
          <a:stretch/>
        </p:blipFill>
        <p:spPr>
          <a:xfrm>
            <a:off x="4648320" y="2433600"/>
            <a:ext cx="3809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FERY OBJAWÓW STRES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fera fizjologii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fera sprawności i myśleni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fera emocji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fera zachowań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BJAWY STRES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 sferze fizjologii:</a:t>
            </a:r>
            <a:br>
              <a:rPr sz="18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ladość, pocenie się, przyspieszone bicie serca, napięcie mięśni, 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yszenie, zmiany ciśnienia krwi, odpływ krwi do mięśni, suchość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 ustach i gardle, częste oddawanie moczu, ból pleców, szyi i innych części ciała, niestrawność, bóle głowy, bezsenność...</a:t>
            </a:r>
            <a:br>
              <a:rPr sz="2000"/>
            </a:b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 sferze sprawności i myślenia: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uki w pamięci, zapominanie, niemożność skoncentrowania się,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ogólny brak zainteresowań, obsesyjne trzymanie się pewnych 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omysłów</a:t>
            </a:r>
            <a:r>
              <a:rPr b="0" lang="en-US" sz="2000" spc="-1" strike="noStrike">
                <a:solidFill>
                  <a:srgbClr val="00264c"/>
                </a:solidFill>
                <a:latin typeface="Verdana"/>
                <a:ea typeface="Times New Roman"/>
              </a:rPr>
              <a:t>.</a:t>
            </a:r>
            <a:br>
              <a:rPr sz="2000"/>
            </a:br>
            <a:br>
              <a:rPr sz="2800"/>
            </a:br>
            <a:r>
              <a:rPr b="0" lang="en-US" sz="2800" spc="-1" strike="noStrike">
                <a:solidFill>
                  <a:srgbClr val="00264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BJAWY STRES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 sferze emocji: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ęk, rozdrażnienie, depresja, zamykanie się w sobie, nerwowość,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złość, zakłopotanie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264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 sferze zachowań:</a:t>
            </a:r>
            <a:br>
              <a:rPr sz="2000"/>
            </a:br>
            <a:r>
              <a:rPr b="0" lang="pl-PL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rudności z mówieniem, impulsywność, drżenie, tiki nerwowe,</a:t>
            </a:r>
            <a:br>
              <a:rPr sz="2000"/>
            </a:br>
            <a:r>
              <a:rPr b="0" lang="pl-PL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ysoki i nerwowy śmiech, zgrzytanie zębami, częstsze uleganie </a:t>
            </a:r>
            <a:br>
              <a:rPr sz="2000"/>
            </a:br>
            <a:r>
              <a:rPr b="0" lang="pl-PL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ypadkom, intensywne palenie papierosów, picie dużych ilości </a:t>
            </a:r>
            <a:br>
              <a:rPr sz="2000"/>
            </a:br>
            <a:r>
              <a:rPr b="0" lang="pl-PL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lkoholu, nieuzasadnione zażywanie leków, zmiany w odżywia-</a:t>
            </a:r>
            <a:br>
              <a:rPr sz="2000"/>
            </a:br>
            <a:r>
              <a:rPr b="0" lang="pl-PL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niu, pojawienie się innych nerwowych zachowań</a:t>
            </a:r>
            <a:r>
              <a:rPr b="0" lang="pl-PL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FAZY STRES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dium stres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Kiedy zaczyna się stres, np. musisz natychmiast zrobić coś, co z różnych względów sprawia Ci trudność. Twój organizm produkuje więcej adrenaliny. Czujesz, jak krew uderza Ci do głowy, puls wali jak szalony, masz przyśpieszony oddech, wysuszone gardło, wilgotne dłonie, ale i sporo energii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FAZY STRES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Stadium stres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Kiedy stres się przedłuża, twoje ciało zmuszone jest do podwyższonej gotowości powoli zaczyna przystosowywać się do takich nienormalnych warunków. Ponieważ jednak zasoby energetyczne każdego organizmu są ograniczone, szybciej się męczysz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FAZY STRES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Stadium -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śli stres utrzymuje się nadal, nie możesz go wyeliminować ani uciec w spokojne i bezpieczne miejsce. Uważaj - Twoje siły są na wyczerpaniu. Czujesz się osobą opuszczoną, wykończoną, wykorzystywaną, smutną, bezradną i doprowadzoną do ostateczności. Krzyczysz lub płaczesz w odpowiedzi na drobne nieprzyjemności, co jest nie zrozumiałe dla otoczenia, które zaczyna traktować Cię jak histeryka(- czkę). Im bardziej się złościsz i ostrzej reagujesz, tym surowiej Cię traktują. W tym trzecim stadium stresu grozi Ci poważne załamanie nerwowe, jeśli natychmiast nie zaczniesz o siebie dbać.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2:43:01Z</dcterms:created>
  <dc:creator>Gosia</dc:creator>
  <dc:description/>
  <dc:language>en-US</dc:language>
  <cp:lastModifiedBy>Gosia</cp:lastModifiedBy>
  <dcterms:modified xsi:type="dcterms:W3CDTF">2006-10-15T14:38:24Z</dcterms:modified>
  <cp:revision>19</cp:revision>
  <dc:subject/>
  <dc:title>STRES</dc:title>
</cp:coreProperties>
</file>