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395-EEF0-475C-807B-A086A7E7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76F-997B-48D1-A1A3-7C840B5A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36F-F263-40E7-8003-46E21117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043-DD99-406B-9217-629EBFE2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360E-BFCD-4813-8C8F-8303913B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D49F-7BA3-4126-ADDA-BABA0EE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3D89-2A1C-4E5B-9C68-88931BA8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588D-BD62-4AC2-BB81-7F03C014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0ADE-4F7B-4B68-95E5-621D7E9C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A052-FFF1-4513-8CE2-BBEB2693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57C0-8802-4357-B501-49252700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F4D-65B9-46A1-AD16-3DE1CFAD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EDAD-6F99-4545-BCEF-10D4F59F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C86B-3A75-41A2-9B20-3AD64DC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5C98-69AC-4630-8641-39D17C98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F534-0BA7-4D07-B53B-448A401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248B-9528-4CDA-9C2C-25158AD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0F8-6441-44B9-A0EC-C6176BB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89D-334F-4510-905F-108E8729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9A2-5DB9-4AA9-9FFA-EAA07AD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5C5-1AB4-4F3F-B6CC-150E36F5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6C3-4A58-4818-B84D-61A8B3E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B61-CD89-4807-821D-BAF7803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081-700E-4015-A6AA-A39E577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D34-895F-4211-8550-D308B436866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31F-373F-4958-A603-44166DEBCC00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otkanie z rodzicami klas maturalny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ażdy młody człowiek wcześniej czy później dokonuje zdumiewającego odkrycia, że także rodzice mają niekiedy rację.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aździernik 20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stres" descr=""/>
          <p:cNvPicPr/>
          <p:nvPr/>
        </p:nvPicPr>
        <p:blipFill>
          <a:blip r:embed="rId4"/>
          <a:stretch/>
        </p:blipFill>
        <p:spPr>
          <a:xfrm>
            <a:off x="4648320" y="2185920"/>
            <a:ext cx="3809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"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res jest to relacja między umiejętnościami radzenia sobie jednostki a wymaganiami stawianymi jej przez otoczenie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BD05368_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38098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za odporność na stres zależy w dużym stopniu od tego, czy mamy oparcie w innych ludziach (rodzice, przyjaciele, nauczyciel), czyli od naszego wsparcia społeczneg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E02097_" descr=""/>
          <p:cNvPicPr/>
          <p:nvPr/>
        </p:nvPicPr>
        <p:blipFill>
          <a:blip r:embed="rId3"/>
          <a:stretch/>
        </p:blipFill>
        <p:spPr>
          <a:xfrm>
            <a:off x="685800" y="24750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64c"/>
                </a:solidFill>
                <a:latin typeface="Times New Roman"/>
              </a:rPr>
              <a:t>Opracowała: Małgorzata Siupi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 T R E 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an zaburzonej równowagi psychologicznej i fizjologicznej w wyniku reakcji somatycznych, które są odpowiedzią na wydarzenia niespodziewane, zakłócające lub stymulujące organizm i całego człowiek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d wpływem stresu pozostajemy wszyscy - choć jedni częściej, inni rzadziej. Często od nas samych zależy, czy dana sytuacja nosi znamiona zagrożenia. To, co dla jednego człowieka stanowi zagrożenie, dla innego może być przyjemnym urozmaiceniem. I tak dla jednych egzamin graniczy z końcem świata, dla innych jest tylko zadaniem; dla jednych porażka jest bodźcem do działania, inni porażkę przepłacają depresją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BD05552_" descr=""/>
          <p:cNvPicPr/>
          <p:nvPr/>
        </p:nvPicPr>
        <p:blipFill>
          <a:blip r:embed="rId3"/>
          <a:stretch/>
        </p:blipFill>
        <p:spPr>
          <a:xfrm>
            <a:off x="4648320" y="243360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FERY OBJAWÓW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fizjolog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sprawności i myślen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emocj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zachowa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fizjologii:</a:t>
            </a:r>
            <a:br>
              <a:rPr sz="18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ladość, pocenie się, przyspieszone bicie serca, napięcie mięśni,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yszenie, zmiany ciśnienia krwi, odpływ krwi do mięśni, suchość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ustach i gardle, częste oddawanie moczu, ból pleców, szyi i innych części ciała, niestrawność, bóle głowy, bezsenność...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sprawności i myślenia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uki w pamięci, zapominanie, niemożność skoncentrowania się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gólny brak zainteresowań, obsesyjne trzymanie się pewnych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mysłów</a:t>
            </a:r>
            <a:r>
              <a:rPr b="0" lang="en-US" sz="2000" spc="-1" strike="noStrike">
                <a:solidFill>
                  <a:srgbClr val="00264c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emocji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ęk, rozdrażnienie, depresja, zamykanie się w sobie, nerwowość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łość, zakłopotani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zachowań: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rudności z mówieniem, impulsywność, drżenie, tiki nerwowe,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soki i nerwowy śmiech, zgrzytanie zębami, częstsze uleganie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padkom, intensywne palenie papierosów, picie dużych ilości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lkoholu, nieuzasadnione zażywanie leków, zmiany w odżywia-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iu, pojawienie się innych nerwowych zachowań</a:t>
            </a:r>
            <a:r>
              <a:rPr b="0" lang="pl-PL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zaczyna się stres, np. musisz natychmiast zrobić coś, co z różnych względów sprawia Ci trudność. Twój organizm produkuje więcej adrenaliny. Czujesz, jak krew uderza Ci do głowy, puls wali jak szalony, masz przyśpieszony oddech, wysuszone gardło, wilgotne dłonie, ale i sporo energii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stres się przedłuża, twoje ciało zmuszone jest do podwyższonej gotowości powoli zaczyna przystosowywać się do takich nienormalnych warunków. Ponieważ jednak zasoby energetyczne każdego organizmu są ograniczone, szybciej się męczysz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Stadium -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stres utrzymuje się nadal, nie możesz go wyeliminować ani uciec w spokojne i bezpieczne miejsce. Uważaj - Twoje siły są na wyczerpaniu. Czujesz się osobą opuszczoną, wykończoną, wykorzystywaną, smutną, bezradną i doprowadzoną do ostateczności. Krzyczysz lub płaczesz w odpowiedzi na drobne nieprzyjemności, co jest nie zrozumiałe dla otoczenia, które zaczyna traktować Cię jak histeryka(- czkę). Im bardziej się złościsz i ostrzej reagujesz, tym surowiej Cię traktują. W tym trzecim stadium stresu grozi Ci poważne załamanie nerwowe, jeśli natychmiast nie zaczniesz o siebie dbać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43:01Z</dcterms:created>
  <dc:creator>Gosia</dc:creator>
  <dc:description/>
  <dc:language>en-US</dc:language>
  <cp:lastModifiedBy>Gosia</cp:lastModifiedBy>
  <dcterms:modified xsi:type="dcterms:W3CDTF">2006-10-15T14:38:24Z</dcterms:modified>
  <cp:revision>19</cp:revision>
  <dc:subject/>
  <dc:title>STRES</dc:title>
</cp:coreProperties>
</file>